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89E-4DDD-4FB2-9CC9-49B92FF1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074-1106-4E9D-AD5C-104F436F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E06BD-4CB9-41F8-BF08-005D9833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6264F-43C0-4939-98A0-688CFDDF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205AC-E82B-4E37-B443-444D76F9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FCE7D-0B73-4C29-9A8D-86B7C9C1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B8257-88C5-4CAD-A28A-EACB8D6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22460-914F-4E2E-8553-ECA91E7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AF3A4-CDFC-4408-BAE1-C70F68C6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AC12F-D6AD-4980-89B8-31F37F7F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A0237-8B4B-40ED-B5A3-1CD23267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2AFC8-595C-4D09-8B59-057AADCF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609-674C-4F06-9D18-244A5BDD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2AEF8-D78E-47F0-BD04-BB6BEBB5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3D81F-50C0-48C3-9378-C6C04960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E9283-A847-4A42-9DEF-0FE96312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138A0-BE73-4EAE-A56E-5036247B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8DE5D-A721-4E8E-BE9A-06A7943E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D7CFD-9C63-4297-9AE0-91134DA8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98135-F718-4930-B008-01D6612C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CF572-975F-4937-A4CC-0F43B98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929A0-8D44-4083-971A-22FADF52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3F418-B529-451B-B283-962F7728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7E1-C824-4DCC-8F86-C86245C3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0B39F-D362-484C-951E-D26BE8CE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A484A-EE2A-4177-B61C-27FFD8FC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F42AD-73FA-419D-96B1-E843AA64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08C05-9DED-4421-99B3-359BFA0D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33E05-22F8-48B0-9F0C-97AE6108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66C93-9A4C-4D56-8A9F-BDEF05A4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E0E80-F3E7-4148-B01C-8DA12B11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D6175-E2BF-4978-AFE9-3C2BA168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04025-542A-4192-907C-EA21F11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6AD13-F63E-46AA-ACA7-38630CD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8B0F-A518-413F-A5C6-DF480228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8AB1C-9A86-44F8-AD8C-E0631A51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87B09-6FC5-4D85-B409-3D89EC94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D3C30-48FA-4D7F-81A7-77966709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21493-9DB8-4380-843E-5A0B558C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53846-C1BD-4DCE-95D0-34787CA7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CE77C-57EF-44FA-AE7F-2CC253AD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70A19-0C04-42BE-93BB-D5CAE6B6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ACD26-CE0A-48BA-A89D-86FB66E1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7B2C1-FE9E-4947-8AF8-2F82C71A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0B64D-3F11-460A-BF7F-49D281A9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54DA-4B18-4379-99D6-59063876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725A7-E5DA-40C9-B51E-5364223F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CCE62-0FBB-49CD-A283-5173A763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94EC8-3271-44C4-9F38-8EEE7FB4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10A08-D8E9-4623-80E8-12C97970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E2C34-A96D-473E-B047-9F227DE8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F71E7-D54F-4374-84D9-265FC8A4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4294D-2B42-4ACE-8318-692BFB49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27379-1330-4576-8933-85DC7065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FB0AD-BFCC-43DF-A532-6CE956DD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10F7A-A399-4824-ADF3-D1AD9EB0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71EC-6BD0-43A5-A936-3962B56F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CFD1F-3AD8-40BF-807B-9937A096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E8FFD-6BE8-4E1A-B1A9-0A4CD953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FD31F-B68A-4805-8548-528A6EFA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E46CC-3D93-424F-932E-63871AED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F7927-5652-4EF4-93ED-4989C3DE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DFDEB-BB31-481A-A99E-3CE61B42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04E29-B1E1-43B5-8A03-2DD8CE4D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0C5E0-889A-4245-A78F-6F3EDF79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C3E5E-7B2C-431D-86E8-556C53FF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41616-A608-4F82-8AC0-302C5904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02BF-7CAF-42BC-A30A-DF781DEA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032D2-F8A7-406D-949A-D83A495D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8FA5C-9937-49D6-BA77-7BBBF8D0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78EDA-43DF-4948-8664-B26C0AD1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CC3490-F003-4D4D-9BF6-057B72BE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51468-B8A1-4EC9-84F4-523BAE4D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05D48-D48B-405B-80DA-0879AB5A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2C484-86AA-4B60-A863-4AC33639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39615-3936-40C9-BC8E-1B72BAF1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897F2-9C44-4C36-93C4-655EC794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C89EAF-7F7D-4CA4-9D32-89DC349D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E04D-85CF-4BBD-94FE-9F8E2DB9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3EA2A-0D43-4157-A98D-54C5A11C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CC86F-0DEA-4F85-B20D-7613BED0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83D17-3B4E-4D9A-8B62-EC385F0E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8BB28-58CA-4C2D-BD44-0A02D70E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2F343-1F7D-43AB-BE3E-CDC9051A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1D62F-0DED-475F-943A-F792D0CA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DF9A8-9611-490A-806E-7B315672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1285D-346A-49A1-8700-0D65A9D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BA8B7-F664-49D9-80C2-747775C5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2B026-29B8-4543-AAB0-50E89DBF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A5D6-DFBE-400D-9A43-12E34B5C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AC47D-AB9D-4FA6-B7FC-1ADDCA46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59BBE-B7DE-488A-ACE6-46B7C2E3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1B378-69E7-4944-A748-07DADC36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2BE3B-E658-4045-BC0D-4656FB89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5E543-3F9B-4407-BB51-D7DFC53E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61106-263A-419C-BDA8-FC12A39D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457F7-64F3-4CEC-9BA8-682CDC20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96598-6D15-4F1E-9623-BD6DC2CA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75946-4665-47E0-B99B-078F12CA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FEFEF-096E-4993-853D-7205907A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AA3D-2DEB-4552-B8A6-D9F09B6A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04577-6580-498E-B718-C63F6980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6A8BC-D9DE-45C8-9C75-95216136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7D12E-4B61-4314-BA3E-6F4A0318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62FB9-03B1-40A8-91AA-9D719B28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F87A2B-EFD7-4FF3-8611-35459B4B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2371D-523C-4A0D-BBAA-AD1BD35F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29AB81-2DAF-43EB-B8CF-4ABFCA2F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E7AB30-5927-494C-87E7-CACA1EB5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95273-4524-45B6-8C99-8CD331E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CA682F-44C0-4A5C-800D-FA71B302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B42-681B-4AD2-BA4B-FA1BD028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5932-8700-4C1B-BAA2-F59E95DC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75F5B0-1D3C-41A3-854F-8EC0CCC5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675B2-B5CE-4CAB-9582-702D6D59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DFAA9-00EC-4C55-B554-02EAEFBF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8CD85-3719-48E2-8118-658F17C9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9F490-44C1-4800-95C0-57D6DD65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B94996-01DF-4958-931E-5EF4A3EA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297593-D415-4068-AF76-13853CEA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EA962-7267-4A47-B8E0-E49250FB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290611-5691-492D-ADB5-F2D55DEC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D9EEF-BE66-44DC-9CF6-9AB84A05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5E4E-252B-4B99-9851-309EF7D7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70CE7C-83CD-4FAF-8370-400BD8B3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CB6CA-0EDF-4F3A-B23B-273BB1CC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50CEA-1747-4D6E-A8F0-5C67F5B9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72CBB4-47E5-4F5B-B205-B6A1C756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33C37-4E49-4DDD-9C91-9A2D169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972DB-CC8A-461A-AE75-5FE26DB8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41370-1529-456C-A797-BCD066B1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F22257-3FCB-4A22-91D3-CEAE6423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420704-ECBC-4C1F-A1F4-0BC3FB84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AE0B16-B6F6-4952-BE6E-42C05D23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92F9-D9F6-492F-BCAB-E4E8E522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F7043F-97D0-422D-BB3A-E76D2FD5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740219-8B7F-4FC0-BFD4-600615CA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C35323-9F5A-45DE-BC7D-A0B35415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FD81D3-29D3-431A-B9D7-426BBA41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A82DE-E628-4DAC-B4A8-6B6B2E0F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B78326-B2D0-49EA-B7F8-D2819EE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4277C-397F-497F-9567-287D6A1E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4B5A25-29BE-43C4-AC8A-DDEE050A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CA5E3F-FB3D-4080-B75D-BC8F67DC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14D56-E6B7-41D9-8A7F-8E0BFC17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B3D1-FFF5-4444-9192-3627D4E0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3F72EC-6BAF-4690-A5EA-6610AA8D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D4CB19-4C6F-4B50-A96C-15A866FD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DE72D-1659-401D-96B2-6E8EE28C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E48E6-8FA1-416C-AA97-190F954B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78B6E-D3C2-47E7-BB9B-48C2D2A8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0C5B99-150F-476B-AABC-1626CECD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965411-173C-4C62-9875-5A4D21D9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CF1CCD-341C-40CA-98CF-A6C8B935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47A69F-1EA8-45AB-A6B9-58051218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953932-24DF-4FB8-8F90-AB4C9050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7D73-746E-4BF8-9ED8-6038D8D8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5F052C-4378-4A07-ABB8-AB7B194F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B3A58-199A-46B5-9685-7A4D818E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75ACD3-36BA-4021-8EE5-0EB45284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B82975-B875-431B-B126-08DBEA51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F82E4F-1B77-4525-AEE2-C67C5728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C8267A-AC23-4F97-9526-0BD33457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D86BA2-ED77-47E9-AF8B-F79F736E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DC3AF-2924-4514-ACF7-9B85880B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468619-7DDE-423C-8AC3-09AD4E63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AF7866-6341-4D56-A374-5D42315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0EBD-1075-47B8-A3A8-7D5BA222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503AEA-1005-45B5-8ADE-D5FBBF98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BD4627-1BC1-4197-A856-667E50E4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A7582E-E15B-4828-9A64-05912FCE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51E7E0-27D9-43D7-B8F6-1FF85A21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FAD301-8627-4530-A696-0C06AF39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67AA4E-5C55-4B50-87D7-F8BF25F6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B19F52-BE23-44A3-A9C5-7ED66EFC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C63968-1AF2-4A0A-8AF5-1B2C265B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9CCE09-35B6-4F13-90D3-942C0646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EF222A-27C7-474B-9DA6-998FFCFA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9F75-D6A8-4D4B-80A3-AFE234BC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15A0E0-72C5-4072-B760-0A1473BF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F6654B-F17F-4B17-BCE2-9263BFF5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EF6C98-E2AF-495F-A7C7-859872E2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A5D75D-A543-4293-B460-5D9C0CB9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7A7F06-FE4F-4358-B8D2-E1CC3820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E1303A-D679-4EBC-8591-85E0A553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1C8256-E4E1-490A-AE43-A3445D88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D97FDE-4F23-47CF-9FE9-1140B1BA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C1CB3F-2E59-43F7-A498-75162591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29A4E4-CDA1-4E0B-9E95-80BB99A5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67F2B-E019-4655-895A-C13C3097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FA2418-4E33-4679-90E8-83992B87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B7DAB0-7E3F-49E0-902E-6D09A1DD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8B050B-A3CD-4BC1-882A-2D5FB3A0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158DAA-1BEF-46B0-A663-DF5EB863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6D5B07-0E85-47F2-8D2D-41EE011B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A15F3E-EA7D-480E-BCAC-0E5D0181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DA5D90-C14C-4774-A948-F063C531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E0A40F-AA94-46C0-BADC-83EE269E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1D60FE-0A26-4DB0-AA9D-F6EA671A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B34964-CB80-4475-96E4-B4330E07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E2B5-D990-44FA-A8DF-DA153BCD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DD708E-F74D-4BF0-BAE7-EFB6836E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83E0EF-C4A9-4CBE-83B5-55A1E31E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D4F6F4-264F-4B08-8CC1-6FEDFF70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F486E8-8ECD-437F-95A6-6A2CF28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E94366-32B9-4936-9E0A-3C5FF92E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0E5415-6CBA-4C2C-9F08-D1DDFA90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FB31DF-A948-4FEE-8A38-AF7950B3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5929EA-F158-47F3-A812-7C83E88A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9E04D4-7CDB-4B10-B0C8-009C9613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0BDD39-CD09-4E39-9F37-4430D227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DED28-6B75-413A-9526-54739023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9A1216-ACC1-41AC-8A02-055BD017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A053F6-183D-4A72-A8E6-3D6068DE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E66987-81DB-4E29-8FF2-3F648C9F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1E8435-8691-411A-800B-B3065ABF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7D7029-DF01-4FAA-9153-C71ED58B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1BF084-691B-4B86-AD9A-F200D78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488DF7-AFA5-45E9-B04A-6F60CFA8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64FFFC-F53C-4781-B66A-9A45D830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36013C-F522-42FD-BC41-67C65E83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E5711E-0239-48B3-B95A-EF602384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562-B892-404B-A639-3D0C910F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CFA0-5D4F-465C-A31C-E8617F6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01E99A-648A-4885-876F-E8EE4A39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33A876-2C32-481D-9CEA-3F074B0B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EF3936-489E-481B-959D-148F65AA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0671A7-C3A1-45D7-81C4-CA1CD1A4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790715-E47A-411A-8C37-282E9CD6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0CF658-7A61-4518-9489-F12DC180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EF0EEA-E0E2-49E1-95D2-790343A7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539593-6CC1-4F40-A2CB-707D5BF1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00B716-3281-4CAA-8296-DA07D54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440B99-7401-4E4C-8F55-0642380C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0C3C3-127F-4241-843D-0D66DD65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65EB6B-2970-4B22-8F16-13BBC7A9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6756AA-0D63-4B2B-BC32-E8FD8326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756ECD-C321-4BAE-BCBE-9724D586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2A3A03-9FD9-4134-AC62-2F1FACD7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AE9C6E-D3A0-40EB-95BC-7CF25C7A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058D73-0F05-4102-A500-DD23FC86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271719-510B-4674-B2A3-9DD637ED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491445-DB0B-4422-BFBB-0F45BBB1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91B6A1-09D6-45DB-A004-5A21BB5A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CE060D-A99F-4725-AAA6-45009A27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5D1EC-EA2F-4C0F-9A2D-3741C22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716F86-550B-40E9-9DC9-D047817C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E8DE30-A931-4BC1-9CEC-F52CA4D4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372ADC-3571-4C28-83FD-C1A35B1E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24144F-A722-41EC-9373-9BCD8D2C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3E31A2-5E31-4C0B-A98E-AAA58F0D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E07FE0-AEE4-4E58-8ECB-4FF027BF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2325B2-D763-4A8E-8CA4-BB92BAC6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872AAD-0C0D-4F7B-AB23-AFC0E234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9AA8FC-FC37-4099-844D-07AA5F39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6296F1-E4CD-41BC-9B8D-2F33090B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11E7-6D30-4BF3-8FD1-995DD7CC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8F64A8-C666-4F18-91DC-40F2A526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26D5A7-BA26-4E17-B5D7-DEF7F9DD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5FEC5E-3F14-4BAA-BDD6-2DFC277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D1BA60-5B03-4740-BBB3-143B07B1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077BDE-CD63-429A-AB51-81262E0A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508BDA-2758-4094-9D97-75002709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268307-FE07-467E-B8A8-A4AACE5B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B9A061-DABD-4F09-9F85-320C6AA7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60D569-18B6-4219-923D-1F245CE6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969970-DB4C-4188-8251-DE206F09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D501-3683-4827-BFF8-1EFC1012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7055AE-39B1-4BED-9679-D137332B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8A26BC-8942-43E1-BA0C-8398DAA4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69B646-6FFF-48A7-BA8D-30F8897C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915865-952A-4E8F-848A-C81DF8C1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D6C3FF-2E7C-41CB-9A47-153CAD45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953C11-E510-4F19-ADEE-A8521677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2E6B61-8B93-4CB9-8A26-8ED6F9CD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5F873E-8307-47AE-BAA9-2A2012E0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ACCA11-8AE4-4707-B151-1176F1E7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6FEB12-9CDF-45DF-A5A9-03191340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A43F-7EFB-45B6-ADBF-492CA5FF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C85494-9F77-48C3-AC42-093AE207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FE6211-EDB7-4F8E-A40C-4AA20DC3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395CC0-DFA9-4DD4-AD71-F767CCB0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6E90FA-973A-4547-94A2-2A75775C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BC7DB7-A7C1-4155-9371-E5BBC778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DB062C-C897-414A-8BC0-987F6BAF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945BDC-8286-49B3-A050-40A6BF92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9ADCE0-0495-40BF-8EC1-8BCE278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39F146-F043-4763-BEC7-29A7E6DD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D48E3D-7A36-4228-95C0-C235155A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868B-2A77-403D-BCDA-4CDF00A5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3C665B-76C0-4954-AEBD-9EE3161B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378FDB-C74C-444F-990B-4474B451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018AA0-E96D-451B-BA9B-5C2A4544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04E100-E65E-46FC-B2A8-08D46C57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71D5A0-9285-48DB-A7D3-1696DAED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B5C316-F8E7-454D-851F-7B10D1F0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29A259-E9C1-4156-9E75-8DFE8FB8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9BCB7F-4C88-4FEF-ADCB-D4C4EEC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1422A2-201A-49D8-A44B-A50391E9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6474CA-8902-423D-B40C-816F63C8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1679-BE34-4891-9632-D82E3FBC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1672FD-674E-4135-96EA-F50067FE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34D655-0A36-42C2-9D14-64F9117F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02D5A9-EFBF-4A60-B3B4-2904D83F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FC68-1C8C-453B-877C-4A0D7530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AD428-D4AE-4D98-9180-54433AEC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290-1E56-4CD7-B153-4994D199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B04C4-E2D4-472B-AB7C-9FB94B4F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6E59-EF55-4FA1-B428-04B97893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F516-0ED3-43F6-BB40-54853E4D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9A07-BCCF-4063-BBB2-EE124C2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1175-9234-437E-B162-17205130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BB03-EE90-4F63-AB62-53805D93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AF7B3-317C-45CC-A4A6-B5E81697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A9B8-8C19-4C5A-8B52-A37816E2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33B54-EAA9-4B1F-BC50-2C08D134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0A7CC-C684-458B-96E8-8FA28CFF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455-D7AB-42DC-BDA1-427ACBE1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90FE1-9784-4947-A0FC-0E5B54F6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214A7-F6BA-48D4-BC4C-EBB79323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FEA8E-4EC5-4FF6-95C8-299F642A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3DC48-53A5-49A2-B672-F6F0AB54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5B3C-8CD7-4F37-A010-42B2AAC5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D6633-4489-47AA-BCA6-5E01FDD1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38DE-DDBA-4D70-98BF-D6BC1090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CF383-0D08-4EEF-B0D3-E5CA7342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1287-C309-4A58-8AF3-3ED64A29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4907-DE19-42F5-8A76-7BDF44FF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919-A027-4A21-BF91-DAE0BCE1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0EA36-D897-4D49-A9E6-AD829488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79864-9CB1-411C-89A2-AAFF3EDE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9A17F-874D-4C58-A284-8AA459D1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42869-0FD7-4CC5-890F-9AE2AA6D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FCA15-AA31-4407-B16D-1077B6B6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3875E-A32D-4BD2-857D-B3AB5866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78FE4-7292-44EC-B4EB-C0E89C7D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6C1F0-D160-48C0-B492-1988F73C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1A743-1570-4CB4-9E13-7AEA180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4C7AF-9B58-46E6-BF4F-F9CE4586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9E7-43EE-429C-9946-D4BA0E70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7C1BB-6C1A-4FA0-8F53-0EB69D57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5C58F-72D9-4F0A-ACF4-752FB84A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BB51C-2E20-4289-BB16-F910F08B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5BE56-52BA-485B-9F78-848D9540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158D6-DEBA-418D-B424-4B76C416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8711B-CD6E-448E-9B1A-4DEEC780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D5A7D-FA57-450C-B533-C340B5B7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771E7-42E1-4BA0-9ABB-9DE00D3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0143D-EB17-46C2-944D-73FD5A7B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6D67D-C555-4DF8-A7EE-6AD39732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628-39E8-4118-A079-CBEABC74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10C0F-C098-4D9B-8C0D-603D6029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1F8A0-806C-4DCE-8128-CD5F7563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80FB2-41AF-4B59-99E2-D105EFA2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588F7-7816-4C2D-8A4C-7870C0E6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0BF48-5DC8-4480-B0DA-E9ED3C38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F66E8-CC0E-4C9E-94FD-FE86A06A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D3891-8ABE-470E-A432-B797A1F0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A4B3A-D0ED-4FDF-92CD-DAFA3D7C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73C07-AEF0-4C68-AADE-34AE3657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67D17-F7F8-4C41-A08A-17F7D64B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965-4620-4846-9715-7EB8B676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AC57-C82D-4120-A98E-51775DE8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62995-2371-4F06-8CFD-6AE1950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3125F-4446-4391-B1F8-F7EFABE3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2429C-23D6-4601-92FC-983289A2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E0347-6127-4476-A21A-1BB1A6C0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441C1-088D-4792-BBEA-B7CACBAF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33567-0A94-4D8E-A800-071C5629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578FE-F16F-46F2-BCAC-B81CD376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09236-217D-4377-99AA-2CEED61D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D3210-0BF1-4B0B-A315-1825DAA3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F376-F56F-4029-BCE9-68652B9964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D590-4F76-463C-806A-6AE1615EE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804E-D08A-4F3E-A2A4-DC2CB30372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4821-560B-49F7-B7CE-970729401E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46BE-630C-4475-AD38-47EAE330A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AB57-7102-4F70-B32E-4E3A5A57B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F284-F8C0-4055-B9A0-7D16786A26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95FE-3693-4E84-9C6D-B45FB26162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6620-521D-4D66-9304-5C9D3DED96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484-D541-4609-A8D6-2743F2119D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A395-A5A7-4DDD-AF83-056CE31210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10A7-8834-45A0-98EB-2CE9D264B5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A30D-4643-4FF3-AAE2-683524DCB8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BD7A-79AC-4F11-96C1-2A989F5983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E75D-0336-46F7-8A81-778834EE36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CAFB-4367-42FD-8217-DFEBB9F1DC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0836-A4A5-45D7-BD65-1C18D3FA61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8E53-C1C1-4C12-AE6E-19AB9AE119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19A7-1C55-4192-99A0-A6CD031C5A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5B40-3A49-4644-9BF9-AE82C04070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2677-2A64-4202-8D6C-AE524A2961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AF12-A1FE-429D-83BA-1E3FE3955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1960-50E0-4E48-93C9-1AE4C88EB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BE96-6947-43E9-AEA4-6BC6381D7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1E03-AA05-4398-85B3-40A75EC090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CEFC-F5DE-4728-98EA-6D77E48BA7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FB42-289F-44CF-968A-99A4D13363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0814-CB53-4D83-8E2C-15D7D8539E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1ED2-BEA7-473A-A2C7-9E7BFDD599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20D5-29CB-4A11-9BE5-32882C293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0B83-8F78-4C1A-A46C-5A07A773C8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27F7-868D-4239-A1F4-254EBEDE0B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9DA4-DE8C-408F-99BD-E00B0D0E99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A9E3-0873-4EF5-B2CE-36E4D3222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871E-52C5-45D4-8C50-FA4AE970FD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4AE5-4A15-4405-8EFA-68AA6A0327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CCB3-D678-4F44-A677-93D1EF7A9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D68D-4721-4066-9A4B-9072F469C8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9228-262F-4087-8A9C-E6A46F4C69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67A8-DC7C-4CC9-BD61-9863D3F74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789A-62FE-4955-B68B-B0B46F535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6E28-81D1-4C3F-AC78-62A0091F83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2FC2-2E67-4D44-99EC-A11D52EEFC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CDCA-44A0-428F-8DE8-078F4F4F31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7FCF-0711-4D73-814A-E5EFB15619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A773-137E-4704-8CFE-2ACA36D77A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36C0-54AC-49F9-8655-42EC5923CE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018-2FDD-480F-896D-ACBF2BB333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2D2B-23A1-44D2-AA03-B02BB78E29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2E5D-1DBA-47B7-8988-548ED574F2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38360" y="2085840"/>
            <a:ext cx="4124520" cy="7621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3100320" y="2967120"/>
            <a:ext cx="2828880" cy="73332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476360" y="3860640"/>
            <a:ext cx="6248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6737" descr=""/>
          <p:cNvPicPr/>
          <p:nvPr/>
        </p:nvPicPr>
        <p:blipFill>
          <a:blip r:embed="rId1"/>
          <a:stretch/>
        </p:blipFill>
        <p:spPr>
          <a:xfrm>
            <a:off x="561960" y="1181160"/>
            <a:ext cx="8020080" cy="449568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6738"/>
          <p:cNvSpPr/>
          <p:nvPr/>
        </p:nvSpPr>
        <p:spPr>
          <a:xfrm>
            <a:off x="1981080" y="3867120"/>
            <a:ext cx="38862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6739"/>
          <p:cNvSpPr/>
          <p:nvPr/>
        </p:nvSpPr>
        <p:spPr>
          <a:xfrm>
            <a:off x="8134200" y="450540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6740"/>
          <p:cNvSpPr/>
          <p:nvPr/>
        </p:nvSpPr>
        <p:spPr>
          <a:xfrm>
            <a:off x="1042920" y="5167440"/>
            <a:ext cx="2533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571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2008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4689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410600" cy="513396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4690"/>
          <p:cNvSpPr/>
          <p:nvPr/>
        </p:nvSpPr>
        <p:spPr>
          <a:xfrm>
            <a:off x="1895400" y="1514520"/>
            <a:ext cx="11239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4691"/>
          <p:cNvSpPr/>
          <p:nvPr/>
        </p:nvSpPr>
        <p:spPr>
          <a:xfrm>
            <a:off x="5580000" y="2133720"/>
            <a:ext cx="268596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4692"/>
          <p:cNvSpPr/>
          <p:nvPr/>
        </p:nvSpPr>
        <p:spPr>
          <a:xfrm>
            <a:off x="1362240" y="2819520"/>
            <a:ext cx="40932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4693"/>
          <p:cNvSpPr/>
          <p:nvPr/>
        </p:nvSpPr>
        <p:spPr>
          <a:xfrm>
            <a:off x="6486480" y="4149720"/>
            <a:ext cx="17622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4694"/>
          <p:cNvSpPr/>
          <p:nvPr/>
        </p:nvSpPr>
        <p:spPr>
          <a:xfrm>
            <a:off x="3635280" y="5478480"/>
            <a:ext cx="2676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4695"/>
          <p:cNvSpPr/>
          <p:nvPr/>
        </p:nvSpPr>
        <p:spPr>
          <a:xfrm>
            <a:off x="1297080" y="4816440"/>
            <a:ext cx="409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366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81920" cy="1047960"/>
          </a:xfrm>
          <a:prstGeom prst="rect">
            <a:avLst/>
          </a:prstGeom>
          <a:ln w="0">
            <a:noFill/>
          </a:ln>
        </p:spPr>
      </p:pic>
      <p:pic>
        <p:nvPicPr>
          <p:cNvPr id="1476" name="图片 113666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781680" cy="213372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113667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7458120" cy="270504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13668"/>
          <p:cNvSpPr/>
          <p:nvPr/>
        </p:nvSpPr>
        <p:spPr>
          <a:xfrm>
            <a:off x="7448400" y="3600360"/>
            <a:ext cx="10004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3669"/>
          <p:cNvSpPr/>
          <p:nvPr/>
        </p:nvSpPr>
        <p:spPr>
          <a:xfrm>
            <a:off x="1528920" y="4265640"/>
            <a:ext cx="520056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3670"/>
          <p:cNvSpPr/>
          <p:nvPr/>
        </p:nvSpPr>
        <p:spPr>
          <a:xfrm>
            <a:off x="4788000" y="5084640"/>
            <a:ext cx="365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3671"/>
          <p:cNvSpPr/>
          <p:nvPr/>
        </p:nvSpPr>
        <p:spPr>
          <a:xfrm>
            <a:off x="1476360" y="5762520"/>
            <a:ext cx="13622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2641" descr=""/>
          <p:cNvPicPr/>
          <p:nvPr/>
        </p:nvPicPr>
        <p:blipFill>
          <a:blip r:embed="rId1"/>
          <a:stretch/>
        </p:blipFill>
        <p:spPr>
          <a:xfrm>
            <a:off x="861840" y="1800360"/>
            <a:ext cx="7420320" cy="325728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12642"/>
          <p:cNvSpPr/>
          <p:nvPr/>
        </p:nvSpPr>
        <p:spPr>
          <a:xfrm>
            <a:off x="2771640" y="2476440"/>
            <a:ext cx="54295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2643"/>
          <p:cNvSpPr/>
          <p:nvPr/>
        </p:nvSpPr>
        <p:spPr>
          <a:xfrm>
            <a:off x="1332000" y="3141720"/>
            <a:ext cx="3114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2644"/>
          <p:cNvSpPr/>
          <p:nvPr/>
        </p:nvSpPr>
        <p:spPr>
          <a:xfrm>
            <a:off x="6138720" y="3789360"/>
            <a:ext cx="21243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2645"/>
          <p:cNvSpPr/>
          <p:nvPr/>
        </p:nvSpPr>
        <p:spPr>
          <a:xfrm>
            <a:off x="1403280" y="4479840"/>
            <a:ext cx="11905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1617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58120" cy="308628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111618" descr=""/>
          <p:cNvPicPr/>
          <p:nvPr/>
        </p:nvPicPr>
        <p:blipFill>
          <a:blip r:embed="rId2"/>
          <a:stretch/>
        </p:blipFill>
        <p:spPr>
          <a:xfrm>
            <a:off x="1297080" y="4594320"/>
            <a:ext cx="6800760" cy="46656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1619"/>
          <p:cNvSpPr/>
          <p:nvPr/>
        </p:nvSpPr>
        <p:spPr>
          <a:xfrm>
            <a:off x="1609560" y="1971720"/>
            <a:ext cx="4800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1620"/>
          <p:cNvSpPr/>
          <p:nvPr/>
        </p:nvSpPr>
        <p:spPr>
          <a:xfrm>
            <a:off x="2916360" y="3284640"/>
            <a:ext cx="51721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1621"/>
          <p:cNvSpPr/>
          <p:nvPr/>
        </p:nvSpPr>
        <p:spPr>
          <a:xfrm>
            <a:off x="1258920" y="3933720"/>
            <a:ext cx="353376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1622"/>
          <p:cNvSpPr/>
          <p:nvPr/>
        </p:nvSpPr>
        <p:spPr>
          <a:xfrm>
            <a:off x="2195640" y="4581360"/>
            <a:ext cx="37051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1059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962840" cy="1000440"/>
          </a:xfrm>
          <a:prstGeom prst="rect">
            <a:avLst/>
          </a:prstGeom>
          <a:ln w="0">
            <a:noFill/>
          </a:ln>
        </p:spPr>
      </p:pic>
      <p:pic>
        <p:nvPicPr>
          <p:cNvPr id="1494" name="图片 110594" descr=""/>
          <p:cNvPicPr/>
          <p:nvPr/>
        </p:nvPicPr>
        <p:blipFill>
          <a:blip r:embed="rId2"/>
          <a:stretch/>
        </p:blipFill>
        <p:spPr>
          <a:xfrm>
            <a:off x="1301760" y="1760400"/>
            <a:ext cx="6524640" cy="1675080"/>
          </a:xfrm>
          <a:prstGeom prst="rect">
            <a:avLst/>
          </a:prstGeom>
          <a:ln w="0">
            <a:noFill/>
          </a:ln>
        </p:spPr>
      </p:pic>
      <p:pic>
        <p:nvPicPr>
          <p:cNvPr id="1495" name="图片 110595" descr=""/>
          <p:cNvPicPr/>
          <p:nvPr/>
        </p:nvPicPr>
        <p:blipFill>
          <a:blip r:embed="rId3"/>
          <a:stretch/>
        </p:blipFill>
        <p:spPr>
          <a:xfrm>
            <a:off x="1192320" y="3645000"/>
            <a:ext cx="4886280" cy="399960"/>
          </a:xfrm>
          <a:prstGeom prst="rect">
            <a:avLst/>
          </a:prstGeom>
          <a:ln w="0">
            <a:noFill/>
          </a:ln>
        </p:spPr>
      </p:pic>
      <p:pic>
        <p:nvPicPr>
          <p:cNvPr id="1496" name="图片 110596" descr=""/>
          <p:cNvPicPr/>
          <p:nvPr/>
        </p:nvPicPr>
        <p:blipFill>
          <a:blip r:embed="rId4"/>
          <a:stretch/>
        </p:blipFill>
        <p:spPr>
          <a:xfrm>
            <a:off x="1204920" y="4143240"/>
            <a:ext cx="7362720" cy="257184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10597"/>
          <p:cNvSpPr/>
          <p:nvPr/>
        </p:nvSpPr>
        <p:spPr>
          <a:xfrm>
            <a:off x="4457880" y="3581280"/>
            <a:ext cx="10378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0598"/>
          <p:cNvSpPr/>
          <p:nvPr/>
        </p:nvSpPr>
        <p:spPr>
          <a:xfrm>
            <a:off x="3684600" y="4770360"/>
            <a:ext cx="4390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0599"/>
          <p:cNvSpPr/>
          <p:nvPr/>
        </p:nvSpPr>
        <p:spPr>
          <a:xfrm>
            <a:off x="2987640" y="6222960"/>
            <a:ext cx="18003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图片 109570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191120" cy="943200"/>
          </a:xfrm>
          <a:prstGeom prst="rect">
            <a:avLst/>
          </a:prstGeom>
          <a:ln w="0">
            <a:noFill/>
          </a:ln>
        </p:spPr>
      </p:pic>
      <p:pic>
        <p:nvPicPr>
          <p:cNvPr id="1501" name="图片 109571" descr=""/>
          <p:cNvPicPr/>
          <p:nvPr/>
        </p:nvPicPr>
        <p:blipFill>
          <a:blip r:embed="rId2"/>
          <a:stretch/>
        </p:blipFill>
        <p:spPr>
          <a:xfrm>
            <a:off x="439560" y="1754280"/>
            <a:ext cx="5496120" cy="533160"/>
          </a:xfrm>
          <a:prstGeom prst="rect">
            <a:avLst/>
          </a:prstGeom>
          <a:ln w="0">
            <a:noFill/>
          </a:ln>
        </p:spPr>
      </p:pic>
      <p:pic>
        <p:nvPicPr>
          <p:cNvPr id="1502" name="图片 109572" descr=""/>
          <p:cNvPicPr/>
          <p:nvPr/>
        </p:nvPicPr>
        <p:blipFill>
          <a:blip r:embed="rId3"/>
          <a:stretch/>
        </p:blipFill>
        <p:spPr>
          <a:xfrm>
            <a:off x="447840" y="2367000"/>
            <a:ext cx="7962840" cy="1666800"/>
          </a:xfrm>
          <a:prstGeom prst="rect">
            <a:avLst/>
          </a:prstGeom>
          <a:ln w="0">
            <a:noFill/>
          </a:ln>
        </p:spPr>
      </p:pic>
      <p:pic>
        <p:nvPicPr>
          <p:cNvPr id="1503" name="图片 109573" descr=""/>
          <p:cNvPicPr/>
          <p:nvPr/>
        </p:nvPicPr>
        <p:blipFill>
          <a:blip r:embed="rId4"/>
          <a:stretch/>
        </p:blipFill>
        <p:spPr>
          <a:xfrm>
            <a:off x="960480" y="4278240"/>
            <a:ext cx="7400880" cy="216216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09574"/>
          <p:cNvSpPr/>
          <p:nvPr/>
        </p:nvSpPr>
        <p:spPr>
          <a:xfrm>
            <a:off x="7658280" y="2333520"/>
            <a:ext cx="409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108545" descr=""/>
          <p:cNvPicPr/>
          <p:nvPr/>
        </p:nvPicPr>
        <p:blipFill>
          <a:blip r:embed="rId1"/>
          <a:stretch/>
        </p:blipFill>
        <p:spPr>
          <a:xfrm>
            <a:off x="581040" y="2228760"/>
            <a:ext cx="7981920" cy="2400480"/>
          </a:xfrm>
          <a:prstGeom prst="rect">
            <a:avLst/>
          </a:prstGeom>
          <a:ln w="0">
            <a:noFill/>
          </a:ln>
        </p:spPr>
      </p:pic>
      <p:sp>
        <p:nvSpPr>
          <p:cNvPr id="1506" name="矩形 108546"/>
          <p:cNvSpPr/>
          <p:nvPr/>
        </p:nvSpPr>
        <p:spPr>
          <a:xfrm>
            <a:off x="7753320" y="288612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图片 10752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066840" cy="533520"/>
          </a:xfrm>
          <a:prstGeom prst="rect">
            <a:avLst/>
          </a:prstGeom>
          <a:ln w="0">
            <a:noFill/>
          </a:ln>
        </p:spPr>
      </p:pic>
      <p:pic>
        <p:nvPicPr>
          <p:cNvPr id="1508" name="图片 107523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7991280" cy="1000080"/>
          </a:xfrm>
          <a:prstGeom prst="rect">
            <a:avLst/>
          </a:prstGeom>
          <a:ln w="0">
            <a:noFill/>
          </a:ln>
        </p:spPr>
      </p:pic>
      <p:pic>
        <p:nvPicPr>
          <p:cNvPr id="1509" name="图片 107524" descr=""/>
          <p:cNvPicPr/>
          <p:nvPr/>
        </p:nvPicPr>
        <p:blipFill>
          <a:blip r:embed="rId3"/>
          <a:stretch/>
        </p:blipFill>
        <p:spPr>
          <a:xfrm>
            <a:off x="1092240" y="2517840"/>
            <a:ext cx="6372360" cy="2381040"/>
          </a:xfrm>
          <a:prstGeom prst="rect">
            <a:avLst/>
          </a:prstGeom>
          <a:ln w="0">
            <a:noFill/>
          </a:ln>
        </p:spPr>
      </p:pic>
      <p:pic>
        <p:nvPicPr>
          <p:cNvPr id="1510" name="图片 107525" descr=""/>
          <p:cNvPicPr/>
          <p:nvPr/>
        </p:nvPicPr>
        <p:blipFill>
          <a:blip r:embed="rId4"/>
          <a:stretch/>
        </p:blipFill>
        <p:spPr>
          <a:xfrm>
            <a:off x="1052640" y="5043600"/>
            <a:ext cx="7343640" cy="160956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07526"/>
          <p:cNvSpPr/>
          <p:nvPr/>
        </p:nvSpPr>
        <p:spPr>
          <a:xfrm>
            <a:off x="7667640" y="2057400"/>
            <a:ext cx="428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77320" cy="563904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7867800" y="5334120"/>
            <a:ext cx="40932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3908" descr=""/>
          <p:cNvPicPr/>
          <p:nvPr/>
        </p:nvPicPr>
        <p:blipFill>
          <a:blip r:embed="rId1"/>
          <a:stretch/>
        </p:blipFill>
        <p:spPr>
          <a:xfrm>
            <a:off x="542880" y="1866960"/>
            <a:ext cx="8058240" cy="312408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3909"/>
          <p:cNvSpPr/>
          <p:nvPr/>
        </p:nvSpPr>
        <p:spPr>
          <a:xfrm>
            <a:off x="7812000" y="256536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2881" descr=""/>
          <p:cNvPicPr/>
          <p:nvPr/>
        </p:nvPicPr>
        <p:blipFill>
          <a:blip r:embed="rId1"/>
          <a:stretch/>
        </p:blipFill>
        <p:spPr>
          <a:xfrm>
            <a:off x="523800" y="1185840"/>
            <a:ext cx="80964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1857" descr=""/>
          <p:cNvPicPr/>
          <p:nvPr/>
        </p:nvPicPr>
        <p:blipFill>
          <a:blip r:embed="rId1"/>
          <a:stretch/>
        </p:blipFill>
        <p:spPr>
          <a:xfrm>
            <a:off x="746280" y="733320"/>
            <a:ext cx="7524720" cy="602928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1858"/>
          <p:cNvSpPr/>
          <p:nvPr/>
        </p:nvSpPr>
        <p:spPr>
          <a:xfrm>
            <a:off x="5248440" y="790560"/>
            <a:ext cx="295272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1859"/>
          <p:cNvSpPr/>
          <p:nvPr/>
        </p:nvSpPr>
        <p:spPr>
          <a:xfrm>
            <a:off x="1200240" y="1628640"/>
            <a:ext cx="16286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1860"/>
          <p:cNvSpPr/>
          <p:nvPr/>
        </p:nvSpPr>
        <p:spPr>
          <a:xfrm>
            <a:off x="3132000" y="2924280"/>
            <a:ext cx="51152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1861"/>
          <p:cNvSpPr/>
          <p:nvPr/>
        </p:nvSpPr>
        <p:spPr>
          <a:xfrm>
            <a:off x="1082520" y="3597120"/>
            <a:ext cx="7115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1862"/>
          <p:cNvSpPr/>
          <p:nvPr/>
        </p:nvSpPr>
        <p:spPr>
          <a:xfrm>
            <a:off x="1116000" y="4292640"/>
            <a:ext cx="24289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1863"/>
          <p:cNvSpPr/>
          <p:nvPr/>
        </p:nvSpPr>
        <p:spPr>
          <a:xfrm>
            <a:off x="6516720" y="5589720"/>
            <a:ext cx="170496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64"/>
          <p:cNvSpPr/>
          <p:nvPr/>
        </p:nvSpPr>
        <p:spPr>
          <a:xfrm>
            <a:off x="1268280" y="6280200"/>
            <a:ext cx="2733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0833" descr=""/>
          <p:cNvPicPr/>
          <p:nvPr/>
        </p:nvPicPr>
        <p:blipFill>
          <a:blip r:embed="rId1"/>
          <a:stretch/>
        </p:blipFill>
        <p:spPr>
          <a:xfrm>
            <a:off x="547560" y="828720"/>
            <a:ext cx="8010720" cy="247644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0834" descr=""/>
          <p:cNvPicPr/>
          <p:nvPr/>
        </p:nvPicPr>
        <p:blipFill>
          <a:blip r:embed="rId2"/>
          <a:stretch/>
        </p:blipFill>
        <p:spPr>
          <a:xfrm>
            <a:off x="468360" y="3457440"/>
            <a:ext cx="7972200" cy="1057320"/>
          </a:xfrm>
          <a:prstGeom prst="rect">
            <a:avLst/>
          </a:prstGeom>
          <a:ln w="0">
            <a:noFill/>
          </a:ln>
        </p:spPr>
      </p:pic>
      <p:pic>
        <p:nvPicPr>
          <p:cNvPr id="1450" name="图片 120835" descr=""/>
          <p:cNvPicPr/>
          <p:nvPr/>
        </p:nvPicPr>
        <p:blipFill>
          <a:blip r:embed="rId3"/>
          <a:stretch/>
        </p:blipFill>
        <p:spPr>
          <a:xfrm>
            <a:off x="1908000" y="4221000"/>
            <a:ext cx="5381640" cy="23814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0836"/>
          <p:cNvSpPr/>
          <p:nvPr/>
        </p:nvSpPr>
        <p:spPr>
          <a:xfrm>
            <a:off x="7734240" y="411480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9809" descr=""/>
          <p:cNvPicPr/>
          <p:nvPr/>
        </p:nvPicPr>
        <p:blipFill>
          <a:blip r:embed="rId1"/>
          <a:stretch/>
        </p:blipFill>
        <p:spPr>
          <a:xfrm>
            <a:off x="571680" y="1833480"/>
            <a:ext cx="8001000" cy="319104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19810"/>
          <p:cNvSpPr/>
          <p:nvPr/>
        </p:nvSpPr>
        <p:spPr>
          <a:xfrm>
            <a:off x="7867800" y="1876320"/>
            <a:ext cx="409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19811"/>
          <p:cNvSpPr/>
          <p:nvPr/>
        </p:nvSpPr>
        <p:spPr>
          <a:xfrm>
            <a:off x="1258920" y="4533840"/>
            <a:ext cx="942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8789" descr=""/>
          <p:cNvPicPr/>
          <p:nvPr/>
        </p:nvPicPr>
        <p:blipFill>
          <a:blip r:embed="rId1"/>
          <a:stretch/>
        </p:blipFill>
        <p:spPr>
          <a:xfrm>
            <a:off x="533520" y="1790640"/>
            <a:ext cx="8076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7761" descr=""/>
          <p:cNvPicPr/>
          <p:nvPr/>
        </p:nvPicPr>
        <p:blipFill>
          <a:blip r:embed="rId1"/>
          <a:stretch/>
        </p:blipFill>
        <p:spPr>
          <a:xfrm>
            <a:off x="477720" y="717480"/>
            <a:ext cx="8001000" cy="1009800"/>
          </a:xfrm>
          <a:prstGeom prst="rect">
            <a:avLst/>
          </a:prstGeom>
          <a:ln w="0">
            <a:noFill/>
          </a:ln>
        </p:spPr>
      </p:pic>
      <p:pic>
        <p:nvPicPr>
          <p:cNvPr id="1457" name="图片 117762" descr=""/>
          <p:cNvPicPr/>
          <p:nvPr/>
        </p:nvPicPr>
        <p:blipFill>
          <a:blip r:embed="rId2"/>
          <a:stretch/>
        </p:blipFill>
        <p:spPr>
          <a:xfrm>
            <a:off x="885960" y="1982880"/>
            <a:ext cx="5943600" cy="2361960"/>
          </a:xfrm>
          <a:prstGeom prst="rect">
            <a:avLst/>
          </a:prstGeom>
          <a:ln w="0">
            <a:noFill/>
          </a:ln>
        </p:spPr>
      </p:pic>
      <p:pic>
        <p:nvPicPr>
          <p:cNvPr id="1458" name="图片 117763" descr=""/>
          <p:cNvPicPr/>
          <p:nvPr/>
        </p:nvPicPr>
        <p:blipFill>
          <a:blip r:embed="rId3"/>
          <a:stretch/>
        </p:blipFill>
        <p:spPr>
          <a:xfrm>
            <a:off x="452520" y="4543560"/>
            <a:ext cx="8039160" cy="102852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117764" descr=""/>
          <p:cNvPicPr/>
          <p:nvPr/>
        </p:nvPicPr>
        <p:blipFill>
          <a:blip r:embed="rId4"/>
          <a:stretch/>
        </p:blipFill>
        <p:spPr>
          <a:xfrm>
            <a:off x="938160" y="5689440"/>
            <a:ext cx="6477120" cy="1028880"/>
          </a:xfrm>
          <a:prstGeom prst="rect">
            <a:avLst/>
          </a:prstGeom>
          <a:ln w="0">
            <a:noFill/>
          </a:ln>
        </p:spPr>
      </p:pic>
      <p:pic>
        <p:nvPicPr>
          <p:cNvPr id="1460" name="图片 117765" descr=""/>
          <p:cNvPicPr/>
          <p:nvPr/>
        </p:nvPicPr>
        <p:blipFill>
          <a:blip r:embed="rId5"/>
          <a:stretch/>
        </p:blipFill>
        <p:spPr>
          <a:xfrm>
            <a:off x="7343640" y="1844640"/>
            <a:ext cx="1047960" cy="38088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7766"/>
          <p:cNvSpPr/>
          <p:nvPr/>
        </p:nvSpPr>
        <p:spPr>
          <a:xfrm>
            <a:off x="7667640" y="184464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7767"/>
          <p:cNvSpPr/>
          <p:nvPr/>
        </p:nvSpPr>
        <p:spPr>
          <a:xfrm>
            <a:off x="7740720" y="515772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8:00:35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